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3C80-483E-487F-8925-E3AB58E7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7E9A-AE1B-4705-ABD9-46C62A10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861B-0BF3-4D74-9B64-A7366EB7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C411-F798-432A-80F2-8391CA9F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34E1-6D58-4333-A55B-64105F45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0912-6D5A-4EBC-9F58-33D23A1B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5C6A-5DFD-4577-8060-F7065960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0AA0-E208-4DAD-A369-355591D0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37E1-9F9C-4321-8BE9-B41DE96A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C4D4-FD6C-404A-BD93-02B0FC3A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E7E9-80E1-49D9-9539-10039F4B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71A-9A11-4BF0-BDA8-2067D78C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DFB4-4EA2-45DB-8DAF-704FB501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0176-A53F-4F46-88E1-D55E0885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E79C-300D-448A-BEDE-12DD917E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4FD4-AB1B-48A7-8C35-30D2D94C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E47A-3097-4F50-9331-3A68A373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6603-DA3C-4D10-94C3-E4BF00C6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A830-EED8-43F8-ABFA-AFFA34AC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F035-51E4-4361-9468-24BBF9F1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4F9-9E6E-4DBB-BB3A-CD0E88D5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0D86-E87B-4FFB-9F46-73388792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28E1-7FDF-4915-A363-4F8A9929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10EB-7689-4CD9-9011-557AFB8A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79D0-32C2-4F3C-8C70-9A04609F38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2E8E-5FF1-4B51-AB74-4A73B89283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ows Movie 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Titles, Transitions, and still pictures to Movie 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llections Windo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the media in the collections wind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43243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dding still images to the timel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a clip in the Collections wind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ing down the left mouse button, drag the clip into the time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clip in the appropriate rect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Clips can be re-ordered at will by clicking and dragging them to a different rectangle in the time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666880" y="4114800"/>
            <a:ext cx="3853080" cy="2459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733920" y="5334120"/>
            <a:ext cx="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dding Transi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effects will alter a video clip. Video transitions alters the time between clips. One clip can fade into another clip, can push another clip out of the fram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3581640" cy="2381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3581280" y="5029200"/>
            <a:ext cx="190512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dding Transi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5181480" cy="4818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2971440" y="3048120"/>
            <a:ext cx="20574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243828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and drag a transition from the selection window to the rectangle between cl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Windows Movie Make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Movie Maker allows a us to add titles, transitions, and still images to our movi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dding Titles to Movie Mak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Tasks but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Edit Movie select Make Titles or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6934320" cy="768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895480" y="3886200"/>
            <a:ext cx="3353040" cy="2050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H="1">
            <a:off x="5257440" y="4876920"/>
            <a:ext cx="160020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90960" y="1828800"/>
            <a:ext cx="228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dding Tit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e appropriate s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45720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dding Tit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6781680" cy="5048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>
            <a:off x="2895480" y="1828800"/>
            <a:ext cx="19051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200400" y="4419720"/>
            <a:ext cx="137160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200400" y="5257800"/>
            <a:ext cx="182880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1600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39625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omplete, click on D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51055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 the animation style for the tit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dding Tit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5486400" cy="4014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90720" y="5638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style of animation. Edit the text color or font if desired. Click on Done when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dding tit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at titles can be put before the movie, on video clips, and/or at the end of the mov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mporting Pictu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avigate to the folder containing pictures to impor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and drag to select multiple pictures or hold the ctrl key while selecting pictur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he import butt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0" y="4114800"/>
            <a:ext cx="4317840" cy="2525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H="1">
            <a:off x="6629040" y="609588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mporting pictu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s are Imported into the collections window and are given a default length of 5 seconds. It is easier to change the default time length before the dip is impor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cccc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&gt;Options&gt;Adv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638520" cy="5086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105520" y="2743200"/>
            <a:ext cx="22096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391520" y="2514600"/>
            <a:ext cx="457200" cy="15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6:55:33Z</dcterms:created>
  <dc:creator>OIT</dc:creator>
  <dc:description/>
  <dc:language>en-US</dc:language>
  <cp:lastModifiedBy>OIT</cp:lastModifiedBy>
  <dcterms:modified xsi:type="dcterms:W3CDTF">2007-03-11T17:26:03Z</dcterms:modified>
  <cp:revision>47</cp:revision>
  <dc:subject/>
  <dc:title>Windows Movie Maker</dc:title>
</cp:coreProperties>
</file>